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080-9137-40A5-829E-0599BAB5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EDE-707C-4863-8C15-B150A000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79C-B538-4CBA-9DA5-197F4397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335-4ABB-4C04-B45B-8FA8694E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986-6809-4419-8F1D-3DA34359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BBA-B1CB-4C87-8262-CDBAAE0F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A82-0DB9-40A0-B37A-FF70B9BF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A08-0CD4-4D2A-A79C-C7966596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AF0-63B5-4547-8A8D-AB1EE4B6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A52-79EB-4111-B7DB-2B7804B5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EC0-53E7-4C08-86A4-59FA8BC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61F-A214-4950-ADCE-ED8AFE41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B9C2-8C75-463A-85B7-103A7A7B0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1.03: Direct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Recall …the Direct Varia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…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and the Constant of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DIRECT VARIATION IS 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A 175-lb person on Earth weighs 66.5 pounds on Mars. The weight on Earth varies directly as weight on Mars. What does a person weigh on Earth who weighs 150 lbs.  on M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Write an equation of the direct variation that includes (8, -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Assuming that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y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 varies directly as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, if 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y 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= 24 when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x 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= -48 , find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y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 when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x 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= 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Mark's Innovative Internet Company is selling more software packages each day it is in business. From the data in the table, write a direct variation modeling the relationship. Estimate the number of units sold after 160 days in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graphic"/>
          <p:cNvPicPr/>
          <p:nvPr/>
        </p:nvPicPr>
        <p:blipFill>
          <a:blip r:embed="rId1"/>
          <a:stretch/>
        </p:blipFill>
        <p:spPr>
          <a:xfrm>
            <a:off x="3352680" y="3429000"/>
            <a:ext cx="2438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The following shapes are similar figures. Find the value of the </a:t>
            </a:r>
            <a:r>
              <a:rPr b="0" i="1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0" lang="en-US" sz="4400" spc="-1" strike="noStrike">
                <a:solidFill>
                  <a:srgbClr val="333333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1333440" y="3314520"/>
            <a:ext cx="2819160" cy="182880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5753160" y="3009960"/>
            <a:ext cx="1752480" cy="137160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1:42:51Z</dcterms:created>
  <dc:creator>Sharon Fieldman</dc:creator>
  <dc:description/>
  <dc:language>en-US</dc:language>
  <cp:lastModifiedBy>Sharon Fieldman</cp:lastModifiedBy>
  <dcterms:modified xsi:type="dcterms:W3CDTF">2010-12-01T03:24:02Z</dcterms:modified>
  <cp:revision>10</cp:revision>
  <dc:subject/>
  <dc:title>Recall …the Direct Variation Form</dc:title>
</cp:coreProperties>
</file>